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7E9-78CF-4B8F-B1A5-B8B341A6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650-242E-459D-972C-38065EC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3A1-F036-4D37-8FC8-85697820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93E-AE7F-4BCC-BDE0-E5484113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EF6-DC40-461A-9A75-3F19174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79E-7D43-4F2B-9CD1-28E996C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E9A-546A-48F8-82B9-CB15243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58F-EAA8-4CCC-950F-E466A4D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F67-1E1D-4BBA-8FB2-AA5076B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AEC-D4CC-4A01-ABD9-4259D40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F8F-73CD-41FA-A7FE-3FCD7DD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8BC-FDB3-4050-BD02-C6EDD58D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439-7572-4484-96D7-CCB93BE7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Unicode MS"/>
              </a:rPr>
              <a:t>What time is it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284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77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2:22:18Z</dcterms:created>
  <dc:creator>TEACHER</dc:creator>
  <dc:description/>
  <dc:language>en-US</dc:language>
  <cp:lastModifiedBy>Staff</cp:lastModifiedBy>
  <dcterms:modified xsi:type="dcterms:W3CDTF">2005-11-16T07:47:02Z</dcterms:modified>
  <cp:revision>1</cp:revision>
  <dc:subject/>
  <dc:title>What time is it? </dc:title>
</cp:coreProperties>
</file>