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3F06-31EE-4965-8D0B-CAF9493B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1445-C93C-468C-97C0-321451C5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47B4-8012-455D-B15C-CA0C457F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1477-EC23-4DFD-B292-5EA1A4E8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685F-661B-4A32-9AC8-0188E68E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BF22-EB0E-4890-A711-9908844F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F317-B3DF-4964-9BE1-2902054F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1373-A8CD-41F3-8159-C226E1F0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6AC-9303-4EA5-B7E6-7FCAC447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562E-9A12-4E4D-A492-47687327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C689-F414-4C0C-BB0D-63E1E751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B258-BC1E-4112-90DD-C49437FE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73F8-A6FE-4F11-95C5-2D4F07295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700" spc="-1" strike="noStrike">
                <a:solidFill>
                  <a:srgbClr val="000000"/>
                </a:solidFill>
                <a:latin typeface="Arial"/>
              </a:rPr>
              <a:t>Half past or o’clock?</a:t>
            </a:r>
            <a:br>
              <a:rPr sz="4700"/>
            </a:br>
            <a:br>
              <a:rPr sz="4700"/>
            </a:br>
            <a:br>
              <a:rPr sz="47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48000" y="3357720"/>
            <a:ext cx="2330640" cy="2119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96000" y="476280"/>
            <a:ext cx="1344600" cy="1368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77080" y="3573360"/>
            <a:ext cx="1671480" cy="1743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564080" y="3406680"/>
            <a:ext cx="15840" cy="49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116000" y="3429000"/>
            <a:ext cx="998640" cy="3097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979640" y="549360"/>
            <a:ext cx="11826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95560" y="0"/>
            <a:ext cx="674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1:45:00Z</dcterms:created>
  <dc:creator>TEACHER</dc:creator>
  <dc:description/>
  <dc:language>en-US</dc:language>
  <cp:lastModifiedBy>Staff</cp:lastModifiedBy>
  <dcterms:modified xsi:type="dcterms:W3CDTF">2006-11-13T07:54:56Z</dcterms:modified>
  <cp:revision>3</cp:revision>
  <dc:subject/>
  <dc:title>Make these times on your clocks!    </dc:title>
</cp:coreProperties>
</file>