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7F81-BEE6-428A-A9CE-2FC17688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B342-4DE6-4013-BA29-8B384CFE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3036-365D-4C21-B319-59146220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1486-0A05-462F-A31B-CDBDBEE2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C8A7-994D-4B82-9CA2-B7B29873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139-9243-4BE2-B97D-08FA3286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891-7359-4A7C-AF08-5E0D537E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C74-31CE-4C55-A876-6CEA0DE7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10F1-0547-402E-B878-9DE2CDD0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08A1-704C-42B9-8D70-B7EA8D9F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58DA-FD54-408D-B11A-AE44AFC4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EE66-0662-4EDA-8FA0-E6803F6D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B416-1F41-4DFA-A235-35BA3F141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lf past or o’clock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95560" y="0"/>
            <a:ext cx="674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23:26:39Z</dcterms:created>
  <dc:creator>TEACHER</dc:creator>
  <dc:description/>
  <dc:language>en-US</dc:language>
  <cp:lastModifiedBy>Staff</cp:lastModifiedBy>
  <dcterms:modified xsi:type="dcterms:W3CDTF">2006-01-09T08:55:09Z</dcterms:modified>
  <cp:revision>1</cp:revision>
  <dc:subject/>
  <dc:title>Half past or o’clock? </dc:title>
</cp:coreProperties>
</file>