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90071-500C-4B34-8FC9-98F43A04F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2FDD7-0BF5-47C2-959E-8A842FF3E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06455-E694-4BCD-AA2C-32B79E47A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5D06D-9B2C-4FAD-9718-F3BFF418C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771D8-BE78-4FA6-AE82-B798C62A0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1AFD9-2081-424E-AC23-137C54AB8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61BBB-BBA8-47E3-8307-63131B050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D5229-4AB9-4C77-A6ED-47119A2F8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3857F-98A0-4ACB-84F1-C7C58BA97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F208F-BEFD-4197-A078-D6977AF48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DE2BE-D129-4133-8C48-64D3D096D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A183B-AB48-46A7-8F4D-7064C753E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A971C-A2BB-4194-A78D-8AF23503E3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700"/>
            </a:br>
            <a:r>
              <a:rPr b="0" lang="en-GB" sz="4700" spc="-1" strike="noStrike">
                <a:solidFill>
                  <a:srgbClr val="000000"/>
                </a:solidFill>
                <a:latin typeface="Arial"/>
              </a:rPr>
              <a:t>Can you make these times?</a:t>
            </a:r>
            <a:br>
              <a:rPr sz="4700"/>
            </a:br>
            <a:r>
              <a:rPr b="0" lang="en-GB" sz="4700" spc="-1" strike="noStrike">
                <a:solidFill>
                  <a:srgbClr val="000000"/>
                </a:solidFill>
                <a:latin typeface="Arial"/>
              </a:rPr>
              <a:t>What time is it?</a:t>
            </a:r>
            <a:br>
              <a:rPr sz="4700"/>
            </a:br>
            <a:br>
              <a:rPr sz="4700"/>
            </a:br>
            <a:br>
              <a:rPr sz="4700"/>
            </a:b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348000" y="3573360"/>
            <a:ext cx="2330640" cy="21193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5796000" y="476280"/>
            <a:ext cx="1344600" cy="13683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6877080" y="3645000"/>
            <a:ext cx="1671480" cy="17431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4564080" y="3406680"/>
            <a:ext cx="15840" cy="49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1116000" y="3357720"/>
            <a:ext cx="998640" cy="30970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1979640" y="549360"/>
            <a:ext cx="118260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95560" y="0"/>
            <a:ext cx="6746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220760" y="0"/>
            <a:ext cx="6694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220760" y="0"/>
            <a:ext cx="6694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220760" y="0"/>
            <a:ext cx="6694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220760" y="0"/>
            <a:ext cx="6694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220760" y="0"/>
            <a:ext cx="6694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6T11:45:00Z</dcterms:created>
  <dc:creator>TEACHER</dc:creator>
  <dc:description/>
  <dc:language>en-US</dc:language>
  <cp:lastModifiedBy>TEACHER</cp:lastModifiedBy>
  <dcterms:modified xsi:type="dcterms:W3CDTF">2008-01-13T20:58:03Z</dcterms:modified>
  <cp:revision>4</cp:revision>
  <dc:subject/>
  <dc:title>Make these times on your clocks!    </dc:title>
</cp:coreProperties>
</file>