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0CB-6D84-4F40-A6C2-0F7CEE2A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4C9-2838-4B5D-9073-3A28B6B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4EB-1D02-423F-A2C8-F79F173A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3CE-3074-4DD3-850A-F052CDFE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543-EA58-42C7-861A-6DB59A67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CD2-2AC3-41A3-9502-D99C8EE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637-80A0-443E-AD78-6373600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9EF-AAA7-48AE-B32A-F9508AD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9FA-9E19-462D-9341-7F806C9F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4C2-BB29-40B6-AEA9-75128F8E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B5A-1A1D-4393-A2F7-17FF86D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25B-B2DA-4487-BBB2-50241FF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541-9CB2-416E-8DA1-25EA6942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Make these times on your clocks!</a:t>
            </a:r>
            <a:br>
              <a:rPr sz="47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330640" cy="211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3573360"/>
            <a:ext cx="167148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116000" y="3429000"/>
            <a:ext cx="99864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979640" y="54936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 o’clock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1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half past 3</a:t>
            </a:r>
            <a:br>
              <a:rPr sz="9600"/>
            </a:br>
            <a:br>
              <a:rPr sz="4700"/>
            </a:br>
            <a:br>
              <a:rPr sz="47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64080" y="3406680"/>
            <a:ext cx="15840" cy="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45:00Z</dcterms:created>
  <dc:creator>TEACHER</dc:creator>
  <dc:description/>
  <dc:language>en-US</dc:language>
  <cp:lastModifiedBy>Staff</cp:lastModifiedBy>
  <dcterms:modified xsi:type="dcterms:W3CDTF">2006-02-27T08:08:06Z</dcterms:modified>
  <cp:revision>2</cp:revision>
  <dc:subject/>
  <dc:title>Make these times on your clocks!    </dc:title>
</cp:coreProperties>
</file>